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8ED-B558-4403-A932-133766D1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BB3-2F00-4219-B528-A978AB85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F50-A651-4C23-AC08-3CBD1AC2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65B-9A45-40FD-A9E1-020EF39D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2DD-0981-4289-9E0C-ABFD2D0E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4C8-6B4D-4834-A294-88F5CE92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06F-3C2C-43FF-8B2B-F4D95FFB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A4D-B210-45A3-B537-077FB052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C09-759D-4DF7-AF7F-75A8B95A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D64-B95F-4CDC-8DAE-9498194D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5D9-36C2-40BF-8B38-8AFB4F51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D6AF-6ED3-443A-A1D7-0FDB6AA6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5EDD-0DA4-47C0-9F0C-D1E95FC28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i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n Rivers U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8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, this is a long presentation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14375" t="17998" r="13126" b="8002"/>
          <a:stretch/>
        </p:blipFill>
        <p:spPr>
          <a:xfrm>
            <a:off x="0" y="1371600"/>
            <a:ext cx="8839080" cy="54864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1320" y="190512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590920"/>
            <a:ext cx="685800" cy="152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e My Class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cent Proficient per Sub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to 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by Stu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-623" t="11999" r="25624" b="18003"/>
          <a:stretch/>
        </p:blipFill>
        <p:spPr>
          <a:xfrm>
            <a:off x="0" y="137160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30001" r="25004" b="6996"/>
          <a:stretch/>
        </p:blipFill>
        <p:spPr>
          <a:xfrm>
            <a:off x="0" y="13716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v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30001" r="0" b="5999"/>
          <a:stretch/>
        </p:blipFill>
        <p:spPr>
          <a:xfrm>
            <a:off x="0" y="1752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ciency Ove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11999" r="23752" b="15211"/>
          <a:stretch/>
        </p:blipFill>
        <p:spPr>
          <a:xfrm>
            <a:off x="76320" y="1447920"/>
            <a:ext cx="906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Distrib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3752" t="10000" r="21877" b="21999"/>
          <a:stretch/>
        </p:blipFill>
        <p:spPr>
          <a:xfrm>
            <a:off x="1143000" y="1295280"/>
            <a:ext cx="66294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Distribu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7502" t="13000" r="33126" b="47003"/>
          <a:stretch/>
        </p:blipFill>
        <p:spPr>
          <a:xfrm>
            <a:off x="0" y="1371600"/>
            <a:ext cx="91440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ard.pope</cp:lastModifiedBy>
  <dcterms:modified xsi:type="dcterms:W3CDTF">2009-05-06T06:32:5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